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183-FA86-4EDB-91C6-64BA7188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2E0-13DB-47B1-A128-F32B5444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FCD-DA57-45A7-8281-C30AA923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C3B-6084-40DF-8851-50419623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49B-A922-4CD1-B5E4-D8A4BA9F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857-93FF-42A2-8FD9-AEA706D7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3C5-D1CB-4DBF-ABC0-2FD7392C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A63-FBA8-4A77-AAF7-194C25F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C11-098D-42C1-9423-88D8802F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D2A-8C5B-4563-85D5-6F60F5C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FD9-90F4-453D-A5A8-7501709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275-8ADD-46B2-B4ED-7279B04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9BD5-5F91-4166-A55A-5C128547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 4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ophia (Anna) Pasaj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213372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041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things I do to stay heal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schlafe 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gend für meine Gesund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esse viel Obst und Gemü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jogge jede morg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181908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2481120" cy="197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204804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pprove of one thing someone else do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s du, vermeide die Son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280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 of one thing someone els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prima dass du, bist in der Softball Mannschaf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490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one thing you may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ill viel Gymnastic machen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2209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ne thing you may not do and give a reason wh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Alcohol trinken, denn das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1758960" cy="243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81280" y="3657600"/>
            <a:ext cx="16639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5:38Z</dcterms:created>
  <dc:creator>CUSD220</dc:creator>
  <dc:description/>
  <dc:language>en-US</dc:language>
  <cp:lastModifiedBy>CUSD220</cp:lastModifiedBy>
  <dcterms:modified xsi:type="dcterms:W3CDTF">2012-03-02T17:58:17Z</dcterms:modified>
  <cp:revision>4</cp:revision>
  <dc:subject/>
  <dc:title>Kapital 4 Project</dc:title>
</cp:coreProperties>
</file>